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6C3-C7F5-48F4-943D-A7E31B2E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7F0-C262-400B-9CDA-9E9551C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964-49DB-4CDC-8991-A8527CAA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6E3-BE1C-4707-BA84-2CC04E71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00A-1B77-4CD4-B307-F470D17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599-2F4E-4BB7-9FB2-638EB55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436-99E6-41A2-BF17-B9182091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986-A325-4972-B3CD-3EF1699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616-BF0E-4802-AEE3-15DFB38E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444-1AB9-44AF-A33F-4E4652A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6F8-170B-49E1-BC2D-52423EE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0FD-1908-4C2C-87D3-06EC510D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E6C-CBC2-40A6-9563-B4DB1D8C65B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268200" y="1365120"/>
            <a:ext cx="8869320" cy="203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olves the guest’s experience and the staff’s perform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est and server are both part of trans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Quality control is difficu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 must be zero de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duction and consumption are simultaneous (There is no inventory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lectronic-mechan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rect person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ce-to-fac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es on the tasks that make up ser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s controlling employee behavi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rols cost of transaction/process objective, measurable 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ntrates on what we d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s interaction between the service organization and the gue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owers employees to satisfy guests’ needs and desi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owers employees to solve guests’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ntrates on what the guest wan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oose market segment or seg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termine appropriate service level and 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 not over prom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lfill expectation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20840" y="103320"/>
            <a:ext cx="8521560" cy="200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2514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stated service policies and actual practice the sa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cate management position to employe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 employees as internal custom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move obstacles that keep people from doing their job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train bureaucrac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re people who fit with the company and the service te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 cross-trai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core trai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tivate through feedback and rew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blish award programs that recognize excell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olve employees in setting service standards and developing procedur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03:20:47Z</dcterms:created>
  <dc:creator>Hospitality Management</dc:creator>
  <dc:description/>
  <dc:language>en-US</dc:language>
  <cp:lastModifiedBy>robert</cp:lastModifiedBy>
  <dcterms:modified xsi:type="dcterms:W3CDTF">2011-04-11T09:09:07Z</dcterms:modified>
  <cp:revision>4</cp:revision>
  <dc:subject/>
  <dc:title>The Role of Service in the Hospitality Industry</dc:title>
</cp:coreProperties>
</file>